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1.gif" ContentType="image/gif"/>
  <Override PartName="/ppt/media/image6.jpeg" ContentType="image/jpeg"/>
  <Override PartName="/ppt/media/image27.jpeg" ContentType="image/jpeg"/>
  <Override PartName="/ppt/media/image28.jpeg" ContentType="image/jpeg"/>
  <Override PartName="/ppt/media/image14.wmf" ContentType="image/x-wmf"/>
  <Override PartName="/ppt/media/image25.jpeg" ContentType="image/jpeg"/>
  <Override PartName="/ppt/media/image2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4.gif" ContentType="image/gif"/>
  <Override PartName="/ppt/media/image15.wmf" ContentType="image/x-wmf"/>
  <Override PartName="/ppt/media/image2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6C4-D756-4F1F-B0FD-0BB3C05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E5A-26D9-47F3-839C-1832F10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B00-DF46-409D-917D-3020BE26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003-F7B4-4A0A-8475-51CF5266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B6F-A77B-4553-AF9E-B9942422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9742-C5C9-4802-93C2-0522527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755C-F93B-4ECF-9DCA-589B2923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0BF-B8F4-4F7D-B859-016EEBB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049-215A-4A33-9EF9-B1D36F7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6AC9-056B-4D56-B7E6-0894786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824F-AB8A-4D73-B06A-BD22BF1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39C-FED1-4AE4-A517-D2BC963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001-2297-40E0-A2DD-A08C3D1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2A0F-ABBB-4C36-BC2D-9AC3D89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8123-8BC2-49F1-A38F-147D5901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C768-6F6E-4844-89A2-4B9C2AC4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F1F1-AB84-43E4-8541-5D573A84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3AE-E8C8-490F-99E3-3E54F586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484-59E7-4B9E-8DB0-EE2AF6A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1DF-4BAA-44FE-A7CE-8115426C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39A-2F4A-44D7-9134-708A6EA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E43-5DBD-4498-A693-4A7A0A2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F64-D7ED-4681-980E-8D905CF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86D-E94A-4E9B-A722-43C1C15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D27D-4669-455F-B5FF-A40D8423D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220E-04B1-4758-9717-F742F90624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yandex.ru/yandsearch?p=390&amp;ed=1&amp;text=&#1058;&#1088;&#1091;&#1076;&#1086;&#1074;&#1086;&#1081;%20&#1082;&#1086;&#1076;&#1077;&#1082;&#1089;%20&#1056;&#1060;&amp;spsite=www.top-consult.ru&amp;img_url=www.top-consult.ru%2Fimg%2Flabour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images.yandex.ru/yandsearch?p=32&amp;ed=1&amp;text=&#1088;&#1077;&#1079;&#1102;&#1084;&#1077;&amp;spsite=www.eri.ru&amp;img_url=gazeta.aif.ru%2Fdata%2Fmags%2Fmoskva%2F710%2Fpics%2F24_01_00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101430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655308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Verdana"/>
              </a:rPr>
              <a:t>АВТОБИОГРАФ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11280" y="1628640"/>
            <a:ext cx="6477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Verdana"/>
              </a:rPr>
              <a:t>ХАРАКТЕРИСТ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5" descr="Фото листа бумаги с начатой автобиографией"/>
          <p:cNvPicPr/>
          <p:nvPr/>
        </p:nvPicPr>
        <p:blipFill>
          <a:blip r:embed="rId1"/>
          <a:stretch/>
        </p:blipFill>
        <p:spPr>
          <a:xfrm>
            <a:off x="684360" y="2708280"/>
            <a:ext cx="4248000" cy="29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im4-tub.yandex.net/i?id=45841557&amp;tov=4"/>
          <p:cNvPicPr/>
          <p:nvPr/>
        </p:nvPicPr>
        <p:blipFill>
          <a:blip r:embed="rId2"/>
          <a:stretch/>
        </p:blipFill>
        <p:spPr>
          <a:xfrm>
            <a:off x="5724360" y="2637000"/>
            <a:ext cx="3076920" cy="387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Rectangle 9"/>
          <p:cNvSpPr/>
          <p:nvPr/>
        </p:nvSpPr>
        <p:spPr>
          <a:xfrm>
            <a:off x="250920" y="189000"/>
            <a:ext cx="86421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МА  УРОКА:</a:t>
            </a:r>
            <a:br>
              <a:rPr sz="3200"/>
            </a:b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ДОКУМЕНТЫ ПО ЛИЧНОМУ СОСТА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- описание своей жизн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пустимо ли выражение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«Написал свою автобиографию?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начение слова автобиография уже содержит местоимени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во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Verdana"/>
              </a:rPr>
              <a:t>Возьмите на заметку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потребление ненужных, уточняющих слов называется </a:t>
            </a:r>
            <a:r>
              <a:rPr b="0" lang="ru-RU" sz="2600" spc="-1" strike="noStrike" u="sng">
                <a:solidFill>
                  <a:srgbClr val="cc0000"/>
                </a:solidFill>
                <a:uFillTx/>
                <a:latin typeface="Verdana"/>
              </a:rPr>
              <a:t>плеоназм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от греч. плеоназмос – излишеств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пример: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ценны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сокровищ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вернутьс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тно,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упа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вн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Рисунок2"/>
          <p:cNvPicPr/>
          <p:nvPr/>
        </p:nvPicPr>
        <p:blipFill>
          <a:blip r:embed="rId1"/>
          <a:stretch/>
        </p:blipFill>
        <p:spPr>
          <a:xfrm>
            <a:off x="7721640" y="189000"/>
            <a:ext cx="1171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50920" y="883080"/>
            <a:ext cx="8694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К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т франц. - расследование)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431640"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ень вопросов, используемых для тестирования в целях получения каких-либо свед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431640"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 представления текста документ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троенная по принципу «вопрос-ответ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КЕ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типовой документ с фотокарточкой, содержащий перечень вопросов, используемых для тестирования в целях получения от работника каких-либо свед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нные проверяются инспектором отдела персонала, заверяются его подписью и печа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7" descr="j0234083"/>
          <p:cNvPicPr/>
          <p:nvPr/>
        </p:nvPicPr>
        <p:blipFill>
          <a:blip r:embed="rId1"/>
          <a:stretch/>
        </p:blipFill>
        <p:spPr>
          <a:xfrm>
            <a:off x="250920" y="189000"/>
            <a:ext cx="1571400" cy="78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i?id=5588819&amp;tov=4"/>
          <p:cNvPicPr/>
          <p:nvPr/>
        </p:nvPicPr>
        <p:blipFill>
          <a:blip r:embed="rId2"/>
          <a:stretch/>
        </p:blipFill>
        <p:spPr>
          <a:xfrm>
            <a:off x="7529400" y="189000"/>
            <a:ext cx="1400400" cy="18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9" descr="i?id=101872418&amp;tov=2"/>
          <p:cNvPicPr/>
          <p:nvPr/>
        </p:nvPicPr>
        <p:blipFill>
          <a:blip r:embed="rId3"/>
          <a:stretch/>
        </p:blipFill>
        <p:spPr>
          <a:xfrm>
            <a:off x="5883120" y="189000"/>
            <a:ext cx="1443240" cy="18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 может использоваться в процессе отбора кадров, при составлении психологической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</a:rPr>
              <a:t>характеристик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работника, изучении его жизненного пути и личностных качест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Перечень документов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13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190"/>
          <p:cNvPicPr/>
          <p:nvPr/>
        </p:nvPicPr>
        <p:blipFill>
          <a:blip r:embed="rId2"/>
          <a:stretch/>
        </p:blipFill>
        <p:spPr>
          <a:xfrm>
            <a:off x="6804000" y="189000"/>
            <a:ext cx="21718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6699"/>
                </a:solidFill>
                <a:latin typeface="Verdana"/>
              </a:rPr>
              <a:t>А.Крюковских. Словарь исторических терминов, 199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ХАРАКТЕР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описание характерных, отличительных качеств, черт, свойств чего-либо или кого-либо. Кроме того, отзыв, заключение о трудовой, общественной 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336699"/>
                </a:solidFill>
                <a:uFillTx/>
                <a:latin typeface="Verdana"/>
              </a:rPr>
              <a:t>Большой словарь по социологии, проект www.rusword.com.u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ХАРАКТЕР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т англ. сharacteristic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овокупность признаков, свойств, черт человека, предмета, явления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Официальный документ о служебной, общественной и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угой какой-либо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6699"/>
                </a:solidFill>
                <a:latin typeface="Verdana"/>
              </a:rPr>
              <a:t>Толковый словар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ХАРАКТЕР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происходит от слова «характер» (от лат. charactër - отпечаток, особенность, своеобразие; от греч. charaktër - печать, клеймо; особенность, своеобрази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260280"/>
            <a:ext cx="856944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ХАРАКТЕРИСТИ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это официальный документ, который выдаёт администрация учреждения (организации, предприятия) своему сотруднику/учащемуся при решении целого ряда вопросов (поступление в учебные заведения, аттестация на должность и др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6" descr="Рисунок1111"/>
          <p:cNvPicPr/>
          <p:nvPr/>
        </p:nvPicPr>
        <p:blipFill>
          <a:blip r:embed="rId1"/>
          <a:stretch/>
        </p:blipFill>
        <p:spPr>
          <a:xfrm>
            <a:off x="7740720" y="3500280"/>
            <a:ext cx="11890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86425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квизиты штампа организации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дприятия (фирменный бланк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звание вида документ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казание должности лиц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ому выдается характеристик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именование организации, выдающей характеристик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я, имя, отчество сотрудник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кст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пис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ч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50920" y="260280"/>
            <a:ext cx="78501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РЕКВИЗИ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ХАРАКТЕРИСТИК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i?id=22576350&amp;tov=8"/>
          <p:cNvPicPr/>
          <p:nvPr/>
        </p:nvPicPr>
        <p:blipFill>
          <a:blip r:embed="rId1"/>
          <a:stretch/>
        </p:blipFill>
        <p:spPr>
          <a:xfrm>
            <a:off x="7020000" y="1125360"/>
            <a:ext cx="1909800" cy="27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головочная ч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Анкетные данные о работни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анные о трудовой деятельности работ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ценка деловых и личных качеств работни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обственно характеристи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ключительная ч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Текс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характеристики излагается в форме третьего лица и состоит из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раздел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6" descr="i?id=82039198&amp;tov=3"/>
          <p:cNvPicPr/>
          <p:nvPr/>
        </p:nvPicPr>
        <p:blipFill>
          <a:blip r:embed="rId1"/>
          <a:stretch/>
        </p:blipFill>
        <p:spPr>
          <a:xfrm>
            <a:off x="7113600" y="1628640"/>
            <a:ext cx="1812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ние документа (ХАРАКТЕРИСТИКА), должность, занимаемую работником (включая название организации), фамилию, имя, отчество работника (полностью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старшего аудитора отдела ООО «Практик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колова Михаила Васильевич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ервой -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заголовочной ча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ю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00560" y="6093000"/>
            <a:ext cx="718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Ауди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лицо, проверяющее состояние финансово-хозяйстве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ятельности предприятия за определённый пери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амилию, инициалы работника (имя и отчество полностью уже можно не повторять), год рождения, образование (при этом указывается, какие учебные заведения, где и когда окончил работник), специальность (профессию), учёную степень и звание (если они имеются). Как правило, эта часть характеристики оформляется как первый абзац текста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М.В.Соколов 1976 г. рождения, образование высшее, в 1998 г. окончил финансовый факультет Московской финансово-юридической академии по специальности «бухгалтерский учет и аудит».  С 1998 по 2000 гг. М.В.Соколов проходил службу в рядах Вооруженных Сил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79280" y="549360"/>
            <a:ext cx="878544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торой части - в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анкетных данных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ют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42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азывается, с какого года и в какой должности начал свою трудовую деятельность работник в данной организации, на какие должности переводился работник, т.е. даётся краткая информация о его карьерном росте; также содержится характеристика результатов трудовой деятельности работника: перечисляются наиболее значимые результаты его работы. Здесь же могут даваться сведения о повышении квалификации, получении дополнительного образования, второй профессии и др.,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околов М.В. работает в ООО «Практика» с января 2002 г. Сначала он занимал должность аудитора отдела аудита, с 2004 г. работает в должности старшего аудитора того же отдела. До поступления в ООО «Практика» Соколов М.В. в течение двух лет работал в ЗАО «Знак качества» в должности помощника аудитора. За время работы в ООО «Практика» Соколов М.В. в составе группы специалистов участвовал в аудиторских проверках многих компа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2005 г. Соколов М.В. окончил с отличием курсы повышения квалификации Российской академии гос.службы при Президенте РФ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третьей части содержится характеристика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трудовой деятельности работ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8920" y="1746360"/>
            <a:ext cx="86425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т работы, уровень профессиональных знаний, способность к самообразова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оспособность работника оценивается по тому, насколько активен он при выполнении порученных обязанностей, по умению организовывать трудовой процесс и выполнять работу качественно и в установленные сроки, по поведению в сложных ситуациях, по способности брать на себя ответственность за результаты работы, по эффективности принимаемых решений ил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ичные качества работника проявляются в его взаимоотношениях с коллегами (доброжелательность, коммуникабельность), в уровне общей культуры работника, его психологических качеств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формация о формах поощрения работника, имеющихся у него наградах или взыска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четвертой части даётся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ценка деловых (профессиональных) и личных качеств работ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ктуализация  опорных  зн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делопроизводстве документы делятся на 4 группы, как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рядитель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формационно-справоч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личному соста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J0336396"/>
          <p:cNvPicPr/>
          <p:nvPr/>
        </p:nvPicPr>
        <p:blipFill>
          <a:blip r:embed="rId1"/>
          <a:stretch/>
        </p:blipFill>
        <p:spPr>
          <a:xfrm>
            <a:off x="7308720" y="1628640"/>
            <a:ext cx="16178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 (назначение) составления характерис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Характеристика составлена для представления в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Характеристика выдана для поступления в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ятой -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заключительной части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указывае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уководитель учреждения/предприят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менеджер по персоналу, зам.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дписи заверяют гербовой печа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Выдают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характеристику работни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руки или пересылают в учреждения/организации, которые её запрос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ставляется в 2-х экз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Подписывае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характеристи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3" descr="Изображение человека с листом бумаги для написания расписки"/>
          <p:cNvPicPr/>
          <p:nvPr/>
        </p:nvPicPr>
        <p:blipFill>
          <a:blip r:embed="rId1"/>
          <a:stretch/>
        </p:blipFill>
        <p:spPr>
          <a:xfrm>
            <a:off x="7851600" y="189000"/>
            <a:ext cx="11131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J0283618"/>
          <p:cNvPicPr/>
          <p:nvPr/>
        </p:nvPicPr>
        <p:blipFill>
          <a:blip r:embed="rId2"/>
          <a:stretch/>
        </p:blipFill>
        <p:spPr>
          <a:xfrm>
            <a:off x="7524720" y="2637000"/>
            <a:ext cx="1376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539640" y="1844640"/>
            <a:ext cx="73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● </a:t>
            </a: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производственные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6" descr="i?id=45841557&amp;tov=4"/>
          <p:cNvPicPr/>
          <p:nvPr/>
        </p:nvPicPr>
        <p:blipFill>
          <a:blip r:embed="rId1"/>
          <a:stretch/>
        </p:blipFill>
        <p:spPr>
          <a:xfrm>
            <a:off x="6386400" y="2205000"/>
            <a:ext cx="2573280" cy="324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Picture 7" descr="i?id=15577808&amp;tov=3"/>
          <p:cNvPicPr/>
          <p:nvPr/>
        </p:nvPicPr>
        <p:blipFill>
          <a:blip r:embed="rId2"/>
          <a:stretch/>
        </p:blipFill>
        <p:spPr>
          <a:xfrm>
            <a:off x="3608280" y="2924280"/>
            <a:ext cx="2556000" cy="324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6" name="Rectangle 8"/>
          <p:cNvSpPr/>
          <p:nvPr/>
        </p:nvSpPr>
        <p:spPr>
          <a:xfrm>
            <a:off x="324000" y="33336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Разновидности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характеристи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39640" y="2349360"/>
            <a:ext cx="73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● </a:t>
            </a: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служебные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539640" y="2924280"/>
            <a:ext cx="73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● </a:t>
            </a:r>
            <a:r>
              <a:rPr b="0" lang="ru-RU" sz="3200" spc="-1" strike="noStrike">
                <a:solidFill>
                  <a:srgbClr val="336699"/>
                </a:solidFill>
                <a:latin typeface="Verdana"/>
              </a:rPr>
              <a:t>учеб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?id=27828520&amp;tov=4"/>
          <p:cNvPicPr/>
          <p:nvPr/>
        </p:nvPicPr>
        <p:blipFill>
          <a:blip r:embed="rId1"/>
          <a:stretch/>
        </p:blipFill>
        <p:spPr>
          <a:xfrm>
            <a:off x="6156360" y="1341360"/>
            <a:ext cx="2720880" cy="1949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179280" y="2048040"/>
            <a:ext cx="8452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Verdana"/>
              </a:rPr>
              <a:t>К персональным данным относятся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библиографические све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бразование и специальност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занимаемая должност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адрес места жительства, домашний телеф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остав семьи, место работы/учёбы членов семьи и родственни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характер взаимоотношений в семь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размер заработной плат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одержание трудового договор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содержание декларации, подаваемой в налоговую инспекцию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едеральный закон Российской Федерации от 27 июля 2006 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N 152-ФЗ  «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О персональных данных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убликован 29 июля 2006 г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инят Государственной Думой 8 июля 2006 г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Одобрен Советом Федерации 14 июля 2006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280" y="5634000"/>
            <a:ext cx="8721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cc0000"/>
                </a:solidFill>
                <a:uFillTx/>
                <a:latin typeface="Verdana"/>
              </a:rPr>
              <a:t>Статья 24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тветственность за нарушение требований настоящего Федерального зако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ца, виновные в нарушении требований настоящего Федерального закона, несут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ражданскую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уголовную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министративную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дисциплинарную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иную предусмотренную законодательством РФ ответствен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42920" y="2060640"/>
            <a:ext cx="785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гласно ст.88 ТК Р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одатель не должен передавать персональные данные сотрудника третьей стороне без необходимого получения письменного согласия на то сотрудника (исключение составляют моменты, когда это необходимо в целях предупреждения угрозы жизни и здоровью работника, а также в случаях, установленных федеральным законом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i?id=60136981&amp;tov=6"/>
          <p:cNvPicPr/>
          <p:nvPr/>
        </p:nvPicPr>
        <p:blipFill>
          <a:blip r:embed="rId1"/>
          <a:stretch/>
        </p:blipFill>
        <p:spPr>
          <a:xfrm>
            <a:off x="7569360" y="189000"/>
            <a:ext cx="1358640" cy="2160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50920" y="189000"/>
            <a:ext cx="67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Автобиография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Характеристика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носятся к официальн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окументам, содержащим персональную информацию о сотрудник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6" descr="i?id=66071938&amp;tov=2"/>
          <p:cNvPicPr/>
          <p:nvPr/>
        </p:nvPicPr>
        <p:blipFill>
          <a:blip r:embed="rId2"/>
          <a:stretch/>
        </p:blipFill>
        <p:spPr>
          <a:xfrm>
            <a:off x="250920" y="4869000"/>
            <a:ext cx="1306440" cy="182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i?id=13909277&amp;tov=8"/>
          <p:cNvPicPr/>
          <p:nvPr/>
        </p:nvPicPr>
        <p:blipFill>
          <a:blip r:embed="rId3"/>
          <a:stretch/>
        </p:blipFill>
        <p:spPr>
          <a:xfrm>
            <a:off x="6372360" y="620640"/>
            <a:ext cx="1339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АВТОБИОГРАФИ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- краткое описание, изложение основных событий своей жизн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642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Разновидности  автобиограф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официальный докумен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литературное произве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Раздел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кетные да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об образова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овая деятель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грады и поощр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сто постоянного жительства, телеф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пис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i="1" lang="ru-RU" sz="1900" spc="-1" strike="noStrike" u="sng">
                <a:solidFill>
                  <a:srgbClr val="cc0000"/>
                </a:solidFill>
                <a:uFillTx/>
                <a:latin typeface="Verdana"/>
              </a:rPr>
              <a:t>АНКЕТА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- типовой документ с фотокарточкой, содержащий перечень вопросов, используемых для тестирования в целях получения от работника каких-либо сведени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J0336396"/>
          <p:cNvPicPr/>
          <p:nvPr/>
        </p:nvPicPr>
        <p:blipFill>
          <a:blip r:embed="rId1"/>
          <a:stretch/>
        </p:blipFill>
        <p:spPr>
          <a:xfrm>
            <a:off x="7236000" y="1628640"/>
            <a:ext cx="1690560" cy="1690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5000760" y="0"/>
            <a:ext cx="4143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Разновидности  характеристик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изводств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еб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Раздел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головочная ч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кетные данные о работн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о трудовой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деловых и личных качеств работ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лючительная ча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9280" y="260280"/>
            <a:ext cx="8569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ХАРАКТЕРИСТИК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это официальный документ, который выдаёт администрация учреждения, организации, предприятия своему сотруднику/учащемуся при решении целого ряда вопро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6" descr="J0336396"/>
          <p:cNvPicPr/>
          <p:nvPr/>
        </p:nvPicPr>
        <p:blipFill>
          <a:blip r:embed="rId1"/>
          <a:stretch/>
        </p:blipFill>
        <p:spPr>
          <a:xfrm>
            <a:off x="7308720" y="1628640"/>
            <a:ext cx="16178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50920" y="27180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документо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торых зафиксированы этап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вой деятельности работни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ываю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336699"/>
                </a:solidFill>
                <a:latin typeface="Verdana"/>
              </a:rPr>
              <a:t>ДОКУМЕНТАЦИЕЙ  ПО  ЛИЧНОМУ  СОСТА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15680" y="1729080"/>
            <a:ext cx="694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основным документам по личному соста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явл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биографии/анке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ст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удовые догово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чные карточки/де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каз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личному состав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удовые книжки и д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8" descr="i?id=34091860&amp;tov=0"/>
          <p:cNvPicPr/>
          <p:nvPr/>
        </p:nvPicPr>
        <p:blipFill>
          <a:blip r:embed="rId1"/>
          <a:stretch/>
        </p:blipFill>
        <p:spPr>
          <a:xfrm>
            <a:off x="6300720" y="3573360"/>
            <a:ext cx="2611440" cy="308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?id=26670717&amp;tov=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141720"/>
            <a:ext cx="314460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2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c0000"/>
                </a:solidFill>
                <a:latin typeface="Verdana"/>
              </a:rPr>
              <a:t>ПОСЛЕДОВАТЕЛЬНОСТЬ  ДОКУМЕНТИРОВАНИЯ  ПРИ  ПРИЁМЕ  НА РАБОТ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Organization Chart 30"/>
          <p:cNvGrpSpPr/>
          <p:nvPr/>
        </p:nvGrpSpPr>
        <p:grpSpPr>
          <a:xfrm>
            <a:off x="2627280" y="692280"/>
            <a:ext cx="3923640" cy="667800"/>
            <a:chOff x="2627280" y="692280"/>
            <a:chExt cx="3923640" cy="667800"/>
          </a:xfrm>
        </p:grpSpPr>
        <p:sp>
          <p:nvSpPr>
            <p:cNvPr id="99" name="_s1028"/>
            <p:cNvSpPr/>
            <p:nvPr/>
          </p:nvSpPr>
          <p:spPr>
            <a:xfrm>
              <a:off x="2627280" y="692280"/>
              <a:ext cx="392364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Verdana"/>
                </a:rPr>
                <a:t>РЕЗЮМ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0" name="Picture 68" descr="book37"/>
          <p:cNvPicPr/>
          <p:nvPr/>
        </p:nvPicPr>
        <p:blipFill>
          <a:blip r:embed="rId1"/>
          <a:stretch/>
        </p:blipFill>
        <p:spPr>
          <a:xfrm>
            <a:off x="250920" y="1700280"/>
            <a:ext cx="2233440" cy="1326960"/>
          </a:xfrm>
          <a:prstGeom prst="rect">
            <a:avLst/>
          </a:prstGeom>
          <a:ln w="0">
            <a:noFill/>
          </a:ln>
        </p:spPr>
      </p:pic>
      <p:grpSp>
        <p:nvGrpSpPr>
          <p:cNvPr id="101" name="Organization Chart 81"/>
          <p:cNvGrpSpPr/>
          <p:nvPr/>
        </p:nvGrpSpPr>
        <p:grpSpPr>
          <a:xfrm>
            <a:off x="2627280" y="1557360"/>
            <a:ext cx="3923640" cy="618840"/>
            <a:chOff x="2627280" y="1557360"/>
            <a:chExt cx="3923640" cy="618840"/>
          </a:xfrm>
        </p:grpSpPr>
        <p:sp>
          <p:nvSpPr>
            <p:cNvPr id="102" name="_s1031"/>
            <p:cNvSpPr/>
            <p:nvPr/>
          </p:nvSpPr>
          <p:spPr>
            <a:xfrm>
              <a:off x="2627280" y="1557360"/>
              <a:ext cx="3923640" cy="618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Verdana"/>
                </a:rPr>
                <a:t>ЗАЯВЛЕН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" name="Organization Chart 85"/>
          <p:cNvGrpSpPr/>
          <p:nvPr/>
        </p:nvGrpSpPr>
        <p:grpSpPr>
          <a:xfrm>
            <a:off x="2627280" y="2492280"/>
            <a:ext cx="3923640" cy="668160"/>
            <a:chOff x="2627280" y="2492280"/>
            <a:chExt cx="3923640" cy="668160"/>
          </a:xfrm>
        </p:grpSpPr>
        <p:sp>
          <p:nvSpPr>
            <p:cNvPr id="104" name="_s1034"/>
            <p:cNvSpPr/>
            <p:nvPr/>
          </p:nvSpPr>
          <p:spPr>
            <a:xfrm>
              <a:off x="2627280" y="2492280"/>
              <a:ext cx="3923640" cy="66816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Verdana"/>
                </a:rPr>
                <a:t>АВТОБИОГРАФИЯ/АНКЕТА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Organization Chart 88"/>
          <p:cNvGrpSpPr/>
          <p:nvPr/>
        </p:nvGrpSpPr>
        <p:grpSpPr>
          <a:xfrm>
            <a:off x="2627280" y="3429000"/>
            <a:ext cx="3923640" cy="667800"/>
            <a:chOff x="2627280" y="3429000"/>
            <a:chExt cx="3923640" cy="667800"/>
          </a:xfrm>
        </p:grpSpPr>
        <p:sp>
          <p:nvSpPr>
            <p:cNvPr id="106" name="_s1037"/>
            <p:cNvSpPr/>
            <p:nvPr/>
          </p:nvSpPr>
          <p:spPr>
            <a:xfrm>
              <a:off x="2627280" y="3429000"/>
              <a:ext cx="392364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Verdana"/>
                </a:rPr>
                <a:t>ТРУДОВОЙ  ДОГОВОР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Organization Chart 91"/>
          <p:cNvGrpSpPr/>
          <p:nvPr/>
        </p:nvGrpSpPr>
        <p:grpSpPr>
          <a:xfrm>
            <a:off x="250920" y="5516640"/>
            <a:ext cx="2880360" cy="667800"/>
            <a:chOff x="250920" y="5516640"/>
            <a:chExt cx="2880360" cy="667800"/>
          </a:xfrm>
        </p:grpSpPr>
        <p:sp>
          <p:nvSpPr>
            <p:cNvPr id="108" name="_s1040"/>
            <p:cNvSpPr/>
            <p:nvPr/>
          </p:nvSpPr>
          <p:spPr>
            <a:xfrm>
              <a:off x="250920" y="5516640"/>
              <a:ext cx="288036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ЗАПИСЬ В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ТРУДОВОЙ КНИЖКЕ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Organization Chart 94"/>
          <p:cNvGrpSpPr/>
          <p:nvPr/>
        </p:nvGrpSpPr>
        <p:grpSpPr>
          <a:xfrm>
            <a:off x="6156360" y="5516640"/>
            <a:ext cx="2770920" cy="667800"/>
            <a:chOff x="6156360" y="5516640"/>
            <a:chExt cx="2770920" cy="667800"/>
          </a:xfrm>
        </p:grpSpPr>
        <p:sp>
          <p:nvSpPr>
            <p:cNvPr id="110" name="_s1043"/>
            <p:cNvSpPr/>
            <p:nvPr/>
          </p:nvSpPr>
          <p:spPr>
            <a:xfrm>
              <a:off x="6156360" y="5516640"/>
              <a:ext cx="277092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БУХГАЛТЕРИЯ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(ОТКРЫТИЕ ЛИЦЕВОГО СЧЁТА)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Organization Chart 97"/>
          <p:cNvGrpSpPr/>
          <p:nvPr/>
        </p:nvGrpSpPr>
        <p:grpSpPr>
          <a:xfrm>
            <a:off x="3203640" y="5516640"/>
            <a:ext cx="2880360" cy="667800"/>
            <a:chOff x="3203640" y="5516640"/>
            <a:chExt cx="2880360" cy="667800"/>
          </a:xfrm>
        </p:grpSpPr>
        <p:sp>
          <p:nvSpPr>
            <p:cNvPr id="112" name="_s1046"/>
            <p:cNvSpPr/>
            <p:nvPr/>
          </p:nvSpPr>
          <p:spPr>
            <a:xfrm>
              <a:off x="3203640" y="5516640"/>
              <a:ext cx="288036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ОФОРМЛЕНИЕ ЛИЧНОЙ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Verdana"/>
                </a:rPr>
                <a:t>КАРТОЧКИ И ЛИЧНОГО ДЕЛА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3" name="Organization Chart 100"/>
          <p:cNvGrpSpPr/>
          <p:nvPr/>
        </p:nvGrpSpPr>
        <p:grpSpPr>
          <a:xfrm>
            <a:off x="2627280" y="4365720"/>
            <a:ext cx="3923640" cy="667800"/>
            <a:chOff x="2627280" y="4365720"/>
            <a:chExt cx="3923640" cy="667800"/>
          </a:xfrm>
        </p:grpSpPr>
        <p:sp>
          <p:nvSpPr>
            <p:cNvPr id="114" name="_s1049"/>
            <p:cNvSpPr/>
            <p:nvPr/>
          </p:nvSpPr>
          <p:spPr>
            <a:xfrm>
              <a:off x="2627280" y="4365720"/>
              <a:ext cx="3923640" cy="6678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Verdana"/>
                </a:rPr>
                <a:t>ПРИКАЗ О ПРИЁМ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Line 106"/>
          <p:cNvSpPr/>
          <p:nvPr/>
        </p:nvSpPr>
        <p:spPr>
          <a:xfrm>
            <a:off x="450072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07"/>
          <p:cNvSpPr/>
          <p:nvPr/>
        </p:nvSpPr>
        <p:spPr>
          <a:xfrm flipH="1">
            <a:off x="2340000" y="5084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08"/>
          <p:cNvSpPr/>
          <p:nvPr/>
        </p:nvSpPr>
        <p:spPr>
          <a:xfrm>
            <a:off x="6516720" y="501336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9"/>
          <p:cNvSpPr/>
          <p:nvPr/>
        </p:nvSpPr>
        <p:spPr>
          <a:xfrm>
            <a:off x="45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0"/>
          <p:cNvSpPr/>
          <p:nvPr/>
        </p:nvSpPr>
        <p:spPr>
          <a:xfrm>
            <a:off x="450072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11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12"/>
          <p:cNvSpPr/>
          <p:nvPr/>
        </p:nvSpPr>
        <p:spPr>
          <a:xfrm>
            <a:off x="450072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13" descr="i?id=8825185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45200" y="2781360"/>
            <a:ext cx="186696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528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т авто... и -биография) - прозаический жанр, описание собственной жизни; близок мемуарам, но более сосредоточен на личности и внутреннем мире автор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"Былое и думы"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Verdana"/>
              </a:rPr>
              <a:t>А.И.</a:t>
            </a:r>
            <a:r>
              <a:rPr b="0" lang="ru-RU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Герце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греч. a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s - сам, 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os - жизнь, g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pho - пишу)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а биографии, где главным героем является автор; обычно пишется от первого лица и охватывает большую (или самую важную) часть жиз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ра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(психологический словарь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последовательное изложение самим говорящим или пишущим основных этапов его жизни…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современный толковый словарь русского языка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Verdana"/>
              </a:rPr>
              <a:t>Ефремовой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литературный жанр, описание жизни автора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энциклопедия «Кругосвет»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(от авто... и -биография) описание своей жизни; литературный жанр, близкий мемуарам, но отличающийся большей…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большая советская энциклопед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(греч.) собственная биография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энциклопедический словар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     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Verdana"/>
              </a:rPr>
              <a:t>Ф.А.Брокгауз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Verdana"/>
              </a:rPr>
              <a:t>И.А.Ефрон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book32"/>
          <p:cNvPicPr/>
          <p:nvPr/>
        </p:nvPicPr>
        <p:blipFill>
          <a:blip r:embed="rId2"/>
          <a:stretch/>
        </p:blipFill>
        <p:spPr>
          <a:xfrm>
            <a:off x="7236000" y="5481720"/>
            <a:ext cx="1503360" cy="1252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79280" y="260280"/>
            <a:ext cx="8713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АВТОБИОГРАФ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от лат. - то, что я пишу о себе) краткое описание, изложение основных событий своей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705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азличают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ве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разновидност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автобиограф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официальный документ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Автобиограф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- литературное произвед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официальной (деловой) автобиографии соблюдается строгая хронологическая последовательность изложения факт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ишется она по определённому плану официальным язык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вещение пунктов плана точное и сжато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написании автобиографии как литературного произведения, авторы (писатели, художники, артисты) совершенно свободны в выборе материала и языковых средст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i?id=66337050&amp;tov=3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218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ак официальный документ автобиография состоит из нескольких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раздел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Заголовок</a:t>
            </a:r>
            <a:r>
              <a:rPr b="0" lang="ru-RU" sz="13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Анкетные данные</a:t>
            </a:r>
            <a:r>
              <a:rPr b="0" lang="ru-RU" sz="13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фамилия, имя, отчество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дата и место рождения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родители (их полное имя и отчество, чем занимаются)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семейное положение (краткая информация о жене/муже и детях до 18 лет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Данные об образовании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, в том числе пройденных курсах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этот пункт надо заполнять, начиная со школьных времен, а далее следует охватить все уровни образования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необходимо указать наименования и годы окончания учебного заведения и специализированных курс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Трудовая деятельность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- основной раздел документ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надо отразить всё, начиная от места работы, должности и прочих нюансов до причины увольнения…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- участие в общественной жизни организации/учебного заведения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Награды и поощрени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(если имеются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Место постоянного жительства, телефон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Дата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(слева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0000"/>
                </a:solidFill>
                <a:uFillTx/>
                <a:latin typeface="Verdana"/>
              </a:rPr>
              <a:t>Подпись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(справа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ook20"/>
          <p:cNvPicPr/>
          <p:nvPr/>
        </p:nvPicPr>
        <p:blipFill>
          <a:blip r:embed="rId1"/>
          <a:stretch/>
        </p:blipFill>
        <p:spPr>
          <a:xfrm>
            <a:off x="6804000" y="549360"/>
            <a:ext cx="21290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Является ли данный текст официальной автобиографией? Почему?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держит ли текст лишнюю информацию?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Что бы Вы ещё добавили к представленной автобиографии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Я, Разина Галина Николаевна, родилась в г.Новокузнецке, а именно в Первомайском районе, 12 ноября 1990 г. Следовательно, по знаку зодиака я – скорпион, родилась в год Собак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я мама, Разина Наталья Валентиновна, - домохозяйка. Это очень сложный тру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ой папа, Разин Николай Иванович, - директор одной из торговых фирм г.Новокузнецк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 меня есть ещё сестричка и братик. Они ещё в школу не ходят, маленькие. Также у меня есть двоюродная сестра, ей 12 лет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усь в гимназии № 5 в 11 кл., которая находится на ул.Гвардейской. В нашей гимназии очень много интересных дополнительных занятий, которые проходят после уроков. Я занимаюсь в студии танцев и посещаю факультатив по русскому языку. Мне очень нравится. Из нашего класса на этот факультатив ходят ещё четыре девочки и два мальчик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усь я, в основном, на «пять» и «четыре», мои учителя говорят, что я прилежная. Хочу стать экскурсоводо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свободное время читаю книги, фантастику, катаюсь на коньках, хожу по магазинам, но больше смотрю телевизор. Особенно мне нравятся «Большие гонки» и «Дом-2»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 победу на Городской олимпиаде по русскому языку в 2003 г. я награждена Дипломом победителя, на зональном конкурсе молодых исполнителей народных танцев за танец «Рыбак» я получила Диплом второй степен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Новокузнецке проживаю по адресу: ул.Курчатова, д.12, кв.564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6" descr="PENCIL"/>
          <p:cNvPicPr/>
          <p:nvPr/>
        </p:nvPicPr>
        <p:blipFill>
          <a:blip r:embed="rId1"/>
          <a:stretch/>
        </p:blipFill>
        <p:spPr>
          <a:xfrm>
            <a:off x="8064360" y="5013360"/>
            <a:ext cx="8445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752120"/>
            <a:ext cx="856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Я, Разина Галина Николаевна, родилась 12 ноября 1990 г. в г.Новокузнецк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Мать, Разина Наталья Валентиновна, - домохозяй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Отец, Разин Николай Иванович, - директор торговой фирм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Учусь в 11 кл. гимназии № 5 г.Новокузнец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Учусь в танцевальной студии, посещаю в своей гимназии занятия факультативного курса по русскому язык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В свободное время читаю книги, катаюсь на конька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Награждена Дипломом победителя Городской олимпиады по русскому языку (2006 г.); Дипломом второй степени призёра зонального конкурса молодых исполнителей народных танцев (2007 г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Проживаю по адресу: г.Новокузнецк, ул.Первомайская, д.6, кв.79, тел.77-15-15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29.01.2009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   Разин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i?id=42824075&amp;tov=5"/>
          <p:cNvPicPr/>
          <p:nvPr/>
        </p:nvPicPr>
        <p:blipFill>
          <a:blip r:embed="rId1"/>
          <a:stretch/>
        </p:blipFill>
        <p:spPr>
          <a:xfrm>
            <a:off x="7667640" y="189000"/>
            <a:ext cx="1265400" cy="1800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Пример  автобиограф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87240" y="10494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школь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9-20T20:43:43Z</dcterms:modified>
  <cp:revision>125</cp:revision>
  <dc:subject/>
  <dc:title>PowerPoint Presentation</dc:title>
</cp:coreProperties>
</file>