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CC75-C67D-4691-884A-7CCFB6FAC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7574-7FAB-4694-B0EE-3C5ADD19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BDE7-8287-46FC-8392-FBF5E9C0E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BBB8-0EF2-407B-8499-E13661328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073E-17AD-48E9-8CE5-3A5243CBC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7B20-2422-493E-9992-E8E44CEDC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F7AB-6C24-4BB7-84D7-325A3A222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6BF0-2E84-4883-B660-F5830CA4D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ED3F-A531-411E-949D-A0A85D258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2B91-C380-499D-A17C-74F8C5F1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E3C6-FF40-44A4-8E70-6FB3C7FC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6053-B227-4190-BD60-6F6193B0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83952-F85C-4729-BEBA-D6622F5640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57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ahoma"/>
              </a:rPr>
              <a:t>Жизнь и творчество  Ф.И.Тютчева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00"/>
                </a:solidFill>
                <a:latin typeface="Arial"/>
              </a:rPr>
              <a:t>Мюнхенский период в жизни и творчестве Ф.И.Тютче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23920" y="2361960"/>
            <a:ext cx="44197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Arial"/>
              </a:rPr>
              <a:t>В июле 1822 года, получив место сверхштатного чиновника русской миссии в Боварии Тютчев отправляется в Мюнх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Мюнхен-Германия"/>
          <p:cNvPicPr/>
          <p:nvPr/>
        </p:nvPicPr>
        <p:blipFill>
          <a:blip r:embed="rId1"/>
          <a:stretch/>
        </p:blipFill>
        <p:spPr>
          <a:xfrm>
            <a:off x="228600" y="1905120"/>
            <a:ext cx="4145040" cy="47242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4724280" y="4648320"/>
            <a:ext cx="4114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836 г. в журнале «Современник» были напечатаны  стихи Тютчева «Стихотворения из Германи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Arial"/>
              </a:rPr>
              <a:t>«Я встретил Вас и все – былое…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Arial"/>
              </a:rPr>
              <a:t>Мюнхенский период – пора светских успехов и сердечных мечтаний Тютче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Arial"/>
              </a:rPr>
              <a:t>Он пережил  пылкое увлечение  Амалией  Лерхенфельд,которой и посвятил стихотвор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Arial"/>
              </a:rPr>
              <a:t>«Я помню время золотое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Arial"/>
              </a:rPr>
              <a:t>«Я встретил Вас и все - -былое…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Амалия"/>
          <p:cNvPicPr/>
          <p:nvPr/>
        </p:nvPicPr>
        <p:blipFill>
          <a:blip r:embed="rId1"/>
          <a:stretch/>
        </p:blipFill>
        <p:spPr>
          <a:xfrm>
            <a:off x="604800" y="1600200"/>
            <a:ext cx="3743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«Еще томлюсь тоской желаний…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леонора Петерсон"/>
          <p:cNvPicPr/>
          <p:nvPr/>
        </p:nvPicPr>
        <p:blipFill>
          <a:blip r:embed="rId1"/>
          <a:stretch/>
        </p:blipFill>
        <p:spPr>
          <a:xfrm>
            <a:off x="990720" y="1676520"/>
            <a:ext cx="2219040" cy="2514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Эрнестина"/>
          <p:cNvPicPr/>
          <p:nvPr/>
        </p:nvPicPr>
        <p:blipFill>
          <a:blip r:embed="rId2"/>
          <a:stretch/>
        </p:blipFill>
        <p:spPr>
          <a:xfrm>
            <a:off x="5791320" y="1676520"/>
            <a:ext cx="2068560" cy="25146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136440" y="4800600"/>
            <a:ext cx="367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26 году Тютчев вступает в брак с Элеонорой Петерсон, урожденной графиней Ботм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4267080" y="47242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838 г., после смерти первой жены, Тютчев заключает брак с красавицей Эрнестиной Дернберг,урожденной баронессой  Пфеффе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6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33"/>
                </a:solidFill>
                <a:latin typeface="Arial"/>
              </a:rPr>
              <a:t>«Уж третий год беснуются языки…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743200" y="2057400"/>
            <a:ext cx="5410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590920" y="175248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00"/>
                </a:solidFill>
                <a:latin typeface="Arial"/>
              </a:rPr>
              <a:t>В 1843-50г.г. Тютчев выступает с политическими статья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"/>
          <p:cNvSpPr/>
          <p:nvPr/>
        </p:nvSpPr>
        <p:spPr>
          <a:xfrm>
            <a:off x="5715000" y="2819520"/>
            <a:ext cx="1295280" cy="99036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6"/>
          <p:cNvSpPr/>
          <p:nvPr/>
        </p:nvSpPr>
        <p:spPr>
          <a:xfrm flipH="1">
            <a:off x="5105520" y="2819520"/>
            <a:ext cx="304560" cy="152388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7"/>
          <p:cNvSpPr/>
          <p:nvPr/>
        </p:nvSpPr>
        <p:spPr>
          <a:xfrm flipH="1">
            <a:off x="2057400" y="2743200"/>
            <a:ext cx="3276720" cy="106668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 flipV="1">
            <a:off x="6477120" y="3809160"/>
            <a:ext cx="2209680" cy="16765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оссия и запад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3276720" y="4419720"/>
            <a:ext cx="2666880" cy="13716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оссия и Революц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0"/>
          <p:cNvSpPr/>
          <p:nvPr/>
        </p:nvSpPr>
        <p:spPr>
          <a:xfrm>
            <a:off x="380880" y="4038480"/>
            <a:ext cx="2362320" cy="16002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оссия и Герма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1" descr="Тютчев"/>
          <p:cNvPicPr/>
          <p:nvPr/>
        </p:nvPicPr>
        <p:blipFill>
          <a:blip r:embed="rId4"/>
          <a:stretch/>
        </p:blipFill>
        <p:spPr>
          <a:xfrm>
            <a:off x="609480" y="1219320"/>
            <a:ext cx="180036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«Умом Россию не понять…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495320" y="16765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00"/>
                </a:solidFill>
                <a:latin typeface="Times New Roman"/>
              </a:rPr>
              <a:t>Осенью 1844 года Тютчев возвращается на роди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00"/>
                </a:solidFill>
                <a:latin typeface="Times New Roman"/>
              </a:rPr>
              <a:t>Николай 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I</a:t>
            </a:r>
            <a:r>
              <a:rPr b="0" i="1" lang="ru-RU" sz="2400" spc="-1" strike="noStrike">
                <a:solidFill>
                  <a:srgbClr val="006600"/>
                </a:solidFill>
                <a:latin typeface="Times New Roman"/>
              </a:rPr>
              <a:t> одобряет</a:t>
            </a:r>
            <a:r>
              <a:rPr b="0" i="1" lang="ru-RU" sz="2000" spc="-1" strike="noStrike">
                <a:solidFill>
                  <a:srgbClr val="006600"/>
                </a:solidFill>
                <a:latin typeface="Arial"/>
              </a:rPr>
              <a:t> политические публикации поэ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00"/>
                </a:solidFill>
                <a:latin typeface="Arial"/>
              </a:rPr>
              <a:t>В 1848г. получает должность цензора при министерстве иностранных д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00"/>
                </a:solidFill>
                <a:latin typeface="Arial"/>
              </a:rPr>
              <a:t>В 1858г. Назначается председателем «комитета ценсуры иностранной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Тютчев-Петербург"/>
          <p:cNvPicPr/>
          <p:nvPr/>
        </p:nvPicPr>
        <p:blipFill>
          <a:blip r:embed="rId1"/>
          <a:stretch/>
        </p:blipFill>
        <p:spPr>
          <a:xfrm>
            <a:off x="4565520" y="342252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Тютчев-Петербург"/>
          <p:cNvPicPr/>
          <p:nvPr/>
        </p:nvPicPr>
        <p:blipFill>
          <a:blip r:embed="rId2"/>
          <a:stretch/>
        </p:blipFill>
        <p:spPr>
          <a:xfrm>
            <a:off x="760320" y="1600200"/>
            <a:ext cx="3432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00"/>
                </a:solidFill>
                <a:latin typeface="Arial"/>
              </a:rPr>
              <a:t>«Глашатай истины, пророк любви…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Тютчев-метод"/>
          <p:cNvPicPr/>
          <p:nvPr/>
        </p:nvPicPr>
        <p:blipFill>
          <a:blip r:embed="rId1"/>
          <a:stretch/>
        </p:blipFill>
        <p:spPr>
          <a:xfrm>
            <a:off x="304920" y="2057400"/>
            <a:ext cx="3213000" cy="42577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3657600" y="2514600"/>
            <a:ext cx="54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llegro BT"/>
              </a:rPr>
              <a:t>Художественный мир Тютче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4559400" y="3112920"/>
            <a:ext cx="352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-  пейзажная лир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4711680" y="3875040"/>
            <a:ext cx="330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- любовная лир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4863240" y="4386240"/>
            <a:ext cx="38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00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философская лир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«Любила ты, и так, как ты любить –</a:t>
            </a:r>
            <a:br>
              <a:rPr sz="3600"/>
            </a:b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Нет никому еще не удавалось»…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Любовь  в творчестве   Тютчева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«и блаженство, и безнадежность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напряженное, трагическое чувств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несущее человеку страдание и счасть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«поединок роковой» двух серде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Денисьева"/>
          <p:cNvPicPr/>
          <p:nvPr/>
        </p:nvPicPr>
        <p:blipFill>
          <a:blip r:embed="rId1"/>
          <a:stretch/>
        </p:blipFill>
        <p:spPr>
          <a:xfrm>
            <a:off x="717480" y="1600200"/>
            <a:ext cx="3516480" cy="45259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380880" y="6095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Arial"/>
              </a:rPr>
              <a:t>Е.А.Денисьева – последняя любовь  Тютче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«О, вещая душа моя…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«У Тютчева … поэзия была той психической средой,сквозь которую преломлялись сами собой лучи мысли и проникали на свет Божий…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1864"/>
          <p:cNvPicPr/>
          <p:nvPr/>
        </p:nvPicPr>
        <p:blipFill>
          <a:blip r:embed="rId1"/>
          <a:stretch/>
        </p:blipFill>
        <p:spPr>
          <a:xfrm>
            <a:off x="533520" y="160020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5853600" y="5703840"/>
            <a:ext cx="22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.С.Акса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матика и проблематика творчества Ф.И. Тютче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4358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ема прир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точки зрения Тютчева, Бог говорит с человеком через природу, пытаясь открыть ему тайны бытия. Но тайна природы не может быть до конца разгадана человеком, как и тайна Бога. Тютчев постоянно прибегает к приему параллелизма, находя аналогии между состояниями природы и челове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4358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Стихотворе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«Осенний вечер», «Полдень», «Тени сизые смесились…», «О чем ты воешь, ветр ночной…», «Природа-сфинкс. И тем она верней…», «Не то, что мнете вы, природа…»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00"/>
                </a:solidFill>
                <a:latin typeface="Arial"/>
              </a:rPr>
              <a:t>«Душа хотела б быть звездой…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Тютчев-дипломат и полит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Тютчев-поэ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Тютчев-Филосо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Федор Иванович"/>
          <p:cNvPicPr/>
          <p:nvPr/>
        </p:nvPicPr>
        <p:blipFill>
          <a:blip r:embed="rId1"/>
          <a:stretch/>
        </p:blipFill>
        <p:spPr>
          <a:xfrm>
            <a:off x="923760" y="1600200"/>
            <a:ext cx="3105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4960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Философская тема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Тютчеву, мир двойственен, что проявляется в выделении двух полюсов: бытие – небытие, ночь – день, хаос – гармония. Картина мира поэта исполнена контрастов и антитез, Тютчев остро ощущает катастрофичность бытия, его лирический герой переживает свое бытие как Апокалипсис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тихи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lentiu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!», «О вещая душа моя…», «Два голоса», «Фонтан», «Цицерон»,  «Последний катаклизм»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3628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ема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ссия воспринимается Тютчевым как пространство, наполненное бедами и страданиями, но вместе с тем осененное образом Христа. По Тютчеву, у России особый путь и особое место в мировой истор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тихи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Эти бедные селенья…», «Глядел я, стоя над Невой…», «Ты долго ль будешь за туманом…», «Умом Россию не понять…»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358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ема люб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юбовь воспринимается Тютчевым «как поединок роковой», как могущественная сила, способная перевернуть жизнь человека, над ней не властна даже смерть. Любовь приносит как невыносимые страдание, как и безмерное счасть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тихотворе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«О, как убийственно мы любим…», «Я очи знал, о, эти очи…», «К.Б.» («Я встретил вас – и все былое…», «Она сидела на полу…»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«Где мыслил я и чувствовал впервые…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Arial"/>
              </a:rPr>
              <a:t>Ф.И.Тютчев родился в усадьбе Овстуг Брянского уезда Орловской губернии 23.11.1803г. В культурной старо-дворянской семье среднего достатка, где сильны были патриархальные нач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усадьба Тютчева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отец Тютчева"/>
          <p:cNvPicPr/>
          <p:nvPr/>
        </p:nvPicPr>
        <p:blipFill>
          <a:blip r:embed="rId1"/>
          <a:stretch/>
        </p:blipFill>
        <p:spPr>
          <a:xfrm>
            <a:off x="838080" y="609480"/>
            <a:ext cx="2470320" cy="2895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мать   Тютчева"/>
          <p:cNvPicPr/>
          <p:nvPr/>
        </p:nvPicPr>
        <p:blipFill>
          <a:blip r:embed="rId2"/>
          <a:stretch/>
        </p:blipFill>
        <p:spPr>
          <a:xfrm>
            <a:off x="5486400" y="609480"/>
            <a:ext cx="2451240" cy="28958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380880" y="3886200"/>
            <a:ext cx="41148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Arial"/>
              </a:rPr>
              <a:t>Отец Тютчева, Иван  Николаевич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Arial"/>
              </a:rPr>
              <a:t>радушный,гостеприимный и добр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Arial"/>
              </a:rPr>
              <a:t>сердечный хозяин-помещик, 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Arial"/>
              </a:rPr>
              <a:t>стремившийся к служебной карье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 flipV="1">
            <a:off x="5105520" y="3794760"/>
            <a:ext cx="350496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Arial"/>
              </a:rPr>
              <a:t>Мать Тютчев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Arial"/>
              </a:rPr>
              <a:t>Екатерина Львов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00"/>
                </a:solidFill>
                <a:latin typeface="Arial"/>
              </a:rPr>
              <a:t>&lt;</a:t>
            </a:r>
            <a:r>
              <a:rPr b="0" i="1" lang="ru-RU" sz="1800" spc="-1" strike="noStrike">
                <a:solidFill>
                  <a:srgbClr val="003300"/>
                </a:solidFill>
                <a:latin typeface="Arial"/>
              </a:rPr>
              <a:t>урожденная Толстая</a:t>
            </a:r>
            <a:r>
              <a:rPr b="0" i="1" lang="en-US" sz="1800" spc="-1" strike="noStrike">
                <a:solidFill>
                  <a:srgbClr val="003300"/>
                </a:solidFill>
                <a:latin typeface="Arial"/>
              </a:rPr>
              <a:t>&gt;</a:t>
            </a:r>
            <a:r>
              <a:rPr b="0" i="1" lang="ru-RU" sz="1800" spc="-1" strike="noStrike">
                <a:solidFill>
                  <a:srgbClr val="0033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Arial"/>
              </a:rPr>
              <a:t>Женщина умная,но нервная и впечатлительн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Arial"/>
              </a:rPr>
              <a:t>Детство поэ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Феденька в детстве"/>
          <p:cNvPicPr/>
          <p:nvPr/>
        </p:nvPicPr>
        <p:blipFill>
          <a:blip r:embed="rId1"/>
          <a:stretch/>
        </p:blipFill>
        <p:spPr>
          <a:xfrm>
            <a:off x="5029200" y="1600200"/>
            <a:ext cx="3660840" cy="44197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380880" y="1676520"/>
            <a:ext cx="4191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99"/>
                </a:solidFill>
                <a:latin typeface="Arial"/>
              </a:rPr>
              <a:t>В раннем возрасте Тютчев обнаружил необыкновенные дарования и способности к уч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«Таков поэт – и ты презрел поэта!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19720" y="1447920"/>
            <a:ext cx="4419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0066"/>
                </a:solidFill>
                <a:latin typeface="Arial"/>
              </a:rPr>
              <a:t>Тютчев получил хорошее домашнее образование,которым руководил С.Е.Раич-поэт-переводчик,знаток классической древности и итальянской литерат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Раич"/>
          <p:cNvPicPr/>
          <p:nvPr/>
        </p:nvPicPr>
        <p:blipFill>
          <a:blip r:embed="rId1"/>
          <a:stretch/>
        </p:blipFill>
        <p:spPr>
          <a:xfrm>
            <a:off x="304920" y="1600200"/>
            <a:ext cx="3984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«Своей волшебною струною  смягчай, а не тревожь сердца!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505320" y="1905120"/>
            <a:ext cx="50292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3300"/>
                </a:solidFill>
                <a:latin typeface="Arial"/>
              </a:rPr>
              <a:t>Под влиянием своего учителя С.Е.Раича Тютчев рано приобщился к литературному творчеств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3809880" y="3124080"/>
            <a:ext cx="4953240" cy="838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ffff99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водит из Горац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 flipV="1">
            <a:off x="3733920" y="4419720"/>
            <a:ext cx="5029200" cy="8380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ffff99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шет оду «На новый 1816 год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 flipV="1">
            <a:off x="3733920" y="5637960"/>
            <a:ext cx="5029200" cy="838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ffff99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бликует  вольное перело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Послание к Меценату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Тютчев молодой"/>
          <p:cNvPicPr/>
          <p:nvPr/>
        </p:nvPicPr>
        <p:blipFill>
          <a:blip r:embed="rId1"/>
          <a:stretch/>
        </p:blipFill>
        <p:spPr>
          <a:xfrm>
            <a:off x="304920" y="2514600"/>
            <a:ext cx="3100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86400" y="76464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00"/>
                </a:solidFill>
                <a:latin typeface="Arial"/>
              </a:rPr>
              <a:t>1819-1821г.г Тютчев учится в Московском университе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00"/>
                </a:solidFill>
                <a:latin typeface="Arial"/>
              </a:rPr>
              <a:t>Слушает лекции профессора А.Ф.Мерзляк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00"/>
                </a:solidFill>
                <a:latin typeface="Arial"/>
              </a:rPr>
              <a:t>по теории словесности и истории русской литера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университет"/>
          <p:cNvPicPr/>
          <p:nvPr/>
        </p:nvPicPr>
        <p:blipFill>
          <a:blip r:embed="rId1"/>
          <a:stretch/>
        </p:blipFill>
        <p:spPr>
          <a:xfrm>
            <a:off x="395280" y="765000"/>
            <a:ext cx="403848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коллегия"/>
          <p:cNvPicPr/>
          <p:nvPr/>
        </p:nvPicPr>
        <p:blipFill>
          <a:blip r:embed="rId1"/>
          <a:stretch/>
        </p:blipFill>
        <p:spPr>
          <a:xfrm>
            <a:off x="395280" y="1125360"/>
            <a:ext cx="3352680" cy="2552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Тютчев-р"/>
          <p:cNvPicPr/>
          <p:nvPr/>
        </p:nvPicPr>
        <p:blipFill>
          <a:blip r:embed="rId2"/>
          <a:stretch/>
        </p:blipFill>
        <p:spPr>
          <a:xfrm>
            <a:off x="4738680" y="1125360"/>
            <a:ext cx="3886200" cy="48769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166680" y="3911760"/>
            <a:ext cx="431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Arial"/>
              </a:rPr>
              <a:t>Окончив университет,Тютчев едет в Петербург и поступает на службу в Коллегию иностранных д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8T18:51:34Z</dcterms:created>
  <dc:creator>User</dc:creator>
  <dc:description/>
  <dc:language>en-US</dc:language>
  <cp:lastModifiedBy>BLACKCLASSIC</cp:lastModifiedBy>
  <dcterms:modified xsi:type="dcterms:W3CDTF">2016-11-08T10:34:16Z</dcterms:modified>
  <cp:revision>9</cp:revision>
  <dc:subject/>
  <dc:title>Жизнь и творчество  Ф.И.Тютчева </dc:title>
</cp:coreProperties>
</file>